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F47-0E46-4D8A-A968-3C5913E8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ECB-6533-4B24-8241-A56AE518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A26-3426-42E3-BCCF-F2D7CCCF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951-29D2-44D6-9B6D-E646F783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2F36-CEAD-4B1A-AEF4-8A9BAECE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D9B2-B149-4C07-8884-0318DA1D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5B26-C98B-44EE-A2CD-87C7BB76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317E-2847-4843-B89C-34D75DFD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BB1F-843E-4DA9-8116-F41E62A9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998D-8840-4103-8C2F-CEC617A2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0548-BD83-4483-AA06-B64BFA12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964-5285-4C35-B7E7-DDB6888E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BD83-A3F2-47BC-A85D-6AF37E08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066C-0BA1-4721-B57B-80D37AAB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3EF6-BD88-4867-B084-16908D2F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338B-51CF-4444-9DD0-0FBB7916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1A50-7A66-4161-88A7-8ECAD0BB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836D-7466-441B-A1D8-6289E015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AFE6-0AE4-4247-8CED-D9FD9ACA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7C8E-0782-4F93-8D1E-D8FC562C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B188-668A-4545-9FB5-0778B881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4335-549D-4B61-99CF-FDE06BC6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AC6-6A7F-41A9-8E89-7F142FF7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C9383-0B44-4DA4-8ED1-131D7938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0CA5F-0068-485A-AB09-7C55644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C70A-CB89-42CF-A33E-CCFAC6E5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088B-17E4-4DF7-A386-9118293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B4F2-2A2A-4DC6-ADFF-1C8E224C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D78F-0105-49F2-93A8-3FD9231D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D16A-37C4-4856-9063-54730D49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A6A89-7E95-4C97-98F9-26B6DECA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A019-F9BA-444C-9A5A-C18175EE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CFDA-E350-4DEB-B3CA-847CC576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F78-D0BE-4BA7-82D7-D6A865B6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7084-0864-40E4-A57F-0B1D1A69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CBE45-49A4-4F14-8EAF-BF5CC0B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9A44-3E37-4B9B-B190-AA8F5002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04C3-BB84-4E99-B1ED-98CCEB20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FA48-3AA1-4726-990F-C64F7AE0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B7EE9-824C-47C2-8B59-87249D6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D1EA-17C4-4D46-ADF3-4775E9E1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207BD-C458-4AA5-9181-0EE8F4D9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2A9D-4B63-4335-B795-CC75BCE4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DEA-2C6C-496B-84E2-1448BD98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AD0-926D-4436-8E98-CFE83407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5F3-AAD9-45EE-A19F-74C7019D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1C8-BC28-4502-B31D-22389AD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E05-DFB7-4622-97F4-A22A9F0A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4F5-4A7F-4DC4-9911-DEAD96E955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D0E4-3A97-49F4-B9D1-401DA49BF68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31AF-2DC3-44B7-8DF0-4DC54EC023C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C54-D695-4543-93D4-84F9525B94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41360"/>
            <a:ext cx="862632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Sanam and Euroshi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/25/1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: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r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eets were laid out in line with wooden and carven booth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ch fair lasted about three wee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of the goods were sold in the country, because of the l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the men were wishing to own land which was needed to take the Christianity oa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rchants were the first ones to put up simple booth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r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of the same religion would be on the same stree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were lots of people from towns and coun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the cities grew bigger the trade grew as w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were lots of church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packed their merchandise  into bundles or boxes and slung them over a horse or m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r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carried caps, hats, girdles, purses, gloves, pewter pots, hoods for men, head dresses for women, and also musical instru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angers couldn’t come into the town to sell any goods, but if they paid tolls then they could sell their goo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man was not a citizen of the market town wished to sell fish, for instance he must first pay for toll for each loa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6:55:41Z</dcterms:created>
  <dc:creator>Student</dc:creator>
  <dc:description/>
  <dc:language>en-US</dc:language>
  <cp:lastModifiedBy>Student</cp:lastModifiedBy>
  <dcterms:modified xsi:type="dcterms:W3CDTF">2011-03-25T17:24:02Z</dcterms:modified>
  <cp:revision>3</cp:revision>
  <dc:subject/>
  <dc:title>Commerce</dc:title>
</cp:coreProperties>
</file>